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0AC2C-31C8-4168-B51C-0996491C6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D872F-F3C3-4D7A-95AA-81C7189C5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1190D-A6E9-4348-8510-FE9885002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6E808-3787-4543-8B34-A6CF3DD5B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E9A9E-ABC4-4FCB-9963-57892AD14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DBA78-1756-4101-8237-91B7468B9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FB2C5-17C3-4722-8BEA-EB99AB673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6B79B-1B8A-4BEB-8F70-A147482AB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FE740-AED6-49D4-92FC-FF5FB6EE4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8026E-F361-490E-A37C-22836908E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2ED38-C38A-4901-B7ED-4A6935D6E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EAC8E-8BDE-4CEE-AA8F-691372DF0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F2BD0-8287-41B6-BA56-4B951329E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56D80-BE9A-45E8-95E0-52FAA5B9A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10F15-C7BC-4E2E-9DD6-8073D7FD0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CE113-CBA4-4651-8AB2-64438CF9C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246C9-E895-4E2F-8870-C7F058208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47542-566C-4E6C-B4ED-72147A3FF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E9E54-390F-4077-9700-15B063325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16A07-58AF-49A9-A162-729D50404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7768B-4192-407D-B37C-13D873CFC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58153-8718-48E0-A30C-57809777D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0ADF2-6E79-4B82-B6FD-E3B301865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EFA0A-6487-41DB-97AF-B39829E38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2"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3"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5"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6"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7"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8"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49"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0"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1"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4"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A58E-C41C-4BF7-B4FD-56BBE723B1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5"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7"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8"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09"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0"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11"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1"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2"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3"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4"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5" name="Freeform 51"/>
            <p:cNvSpPr/>
            <p:nvPr/>
          </p:nvSpPr>
          <p:spPr>
            <a:xfrm>
              <a:off x="8250120" y="262080"/>
              <a:ext cx="909720" cy="3071520"/>
            </a:xfrm>
            <a:prstGeom prst="pie">
              <a:avLst/>
            </a:prstGeom>
            <a:gradFill rotWithShape="0">
              <a:gsLst>
                <a:gs pos="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6"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7"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9"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0" name="AutoShape 56"/>
            <p:cNvSpPr/>
            <p:nvPr/>
          </p:nvSpPr>
          <p:spPr>
            <a:xfrm rot="5400000">
              <a:off x="4323960" y="3316320"/>
              <a:ext cx="6858000" cy="225360"/>
            </a:xfrm>
            <a:prstGeom prst="pie">
              <a:avLst/>
            </a:pr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F4C9-1F08-45CD-B781-D5CAA951BCA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delicious.com/" TargetMode="External"/><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Delicious</a:t>
            </a:r>
            <a:endParaRPr b="0" lang="en-US" sz="54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nd other useful websit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dding a Bookmark</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ow click save.</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r new site has now been bookmarked and can be accessed by anyone who uses your accoun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haring the Information</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is a good idea to now send an email out to colleagues that you think can benefit from this new addition to Delicious.</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Let them know the name of the new site, what it can be used for, and explain that you have added it to the Delicious accoun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Try It Out!!</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ow add a website that you feel can be used by others.</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f you do not know of any of hand search googl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teps</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nd a site</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new bookmark</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ype in the address</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dd a description</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dd tags</a:t>
            </a:r>
            <a:endParaRPr b="0" lang="en-US" sz="3200" spc="-1" strike="noStrike">
              <a:solidFill>
                <a:srgbClr val="2f1311"/>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mail colleagues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nother Way to Find Sites</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fter each site in your account is a blue box with a number.</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is is the number of other Delicious users who have bookmark this site.</a:t>
            </a:r>
            <a:endParaRPr b="0" lang="en-US" sz="2800" spc="-1" strike="noStrike">
              <a:solidFill>
                <a:srgbClr val="2f1311"/>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lick that box and you will see all of the users and their accounts</a:t>
            </a:r>
            <a:endParaRPr b="0" lang="en-US" sz="2800" spc="-1" strike="noStrike">
              <a:solidFill>
                <a:srgbClr val="2f1311"/>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Chances are if you have a particular site in common with them, they may have other site that would interest you.</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t>
            </a:r>
            <a:r>
              <a:rPr b="0" lang="en-US" sz="4000" spc="-1" strike="noStrike">
                <a:solidFill>
                  <a:srgbClr val="f7d47d"/>
                </a:solidFill>
                <a:latin typeface="Arial"/>
              </a:rPr>
              <a:t>Stealing Sites”</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Open one of the accounts that are visible from clicking the blue box.</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avigate their site the same way you navigate ours.</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View some of site that look interesting.</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en you find a useful one copy the addres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t>
            </a:r>
            <a:r>
              <a:rPr b="0" lang="en-US" sz="4000" spc="-1" strike="noStrike">
                <a:solidFill>
                  <a:srgbClr val="f7d47d"/>
                </a:solidFill>
                <a:latin typeface="Arial"/>
              </a:rPr>
              <a:t>Stealing Sites”</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 can now add the site to our account using the same process.</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stead of typing the address you can paste i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Try it!!!</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Visit some sites and let’s “Steal” a few useful sites that we come acros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Networking </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 may find that some users have a wide variety of useful sites.</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Rather than add them all you can network the user.</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s is usually other educators or schools</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urrently we are networked with Willow Grove and Craig Mantin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Networking</a:t>
            </a:r>
            <a:endParaRPr b="0" lang="en-US" sz="40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 can view the users we are networked with by clicking network on the top of our homepage.</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On the right hand side of the screen our networks are now visible.</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ow click WGMS</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You can now navigate their sit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at is Delicious</a:t>
            </a: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licious is a social networking website that helps educators organize and share useful websit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dding Networks</a:t>
            </a: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Go to a users site, you can do this by click the blue box with the number.</a:t>
            </a:r>
            <a:endParaRPr b="0" lang="en-US" sz="2800" spc="-1" strike="noStrike">
              <a:solidFill>
                <a:srgbClr val="2f1311"/>
              </a:solidFill>
              <a:latin typeface="Arial"/>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Now click the users name that you want to visit.</a:t>
            </a:r>
            <a:endParaRPr b="0" lang="en-US" sz="2800" spc="-1" strike="noStrike">
              <a:solidFill>
                <a:srgbClr val="2f1311"/>
              </a:solidFill>
              <a:latin typeface="Arial"/>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On the top right hand side of the screen click add to my network.</a:t>
            </a:r>
            <a:endParaRPr b="0" lang="en-US" sz="2800" spc="-1" strike="noStrike">
              <a:solidFill>
                <a:srgbClr val="2f1311"/>
              </a:solidFill>
              <a:latin typeface="Arial"/>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Now you will be asked to add to my network. Click yes.  This user has now been added to our network. You can easily visit in the future to find other useful sites.</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Try It!!!</a:t>
            </a:r>
            <a:endParaRPr b="0" lang="en-US" sz="4000" spc="-1" strike="noStrike">
              <a:solidFill>
                <a:srgbClr val="f7d47d"/>
              </a:solidFill>
              <a:latin typeface="Arial"/>
            </a:endParaRPr>
          </a:p>
        </p:txBody>
      </p:sp>
      <p:sp>
        <p:nvSpPr>
          <p:cNvPr id="23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avigate through to view other user’s accounts. </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en you find an educator or someone who has useful sites, add them to our network.</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teps</a:t>
            </a:r>
            <a:endParaRPr b="0" lang="en-US" sz="4000" spc="-1" strike="noStrike">
              <a:solidFill>
                <a:srgbClr val="f7d47d"/>
              </a:solidFill>
              <a:latin typeface="Arial"/>
            </a:endParaRPr>
          </a:p>
        </p:txBody>
      </p:sp>
      <p:sp>
        <p:nvSpPr>
          <p:cNvPr id="23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blue number box</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user’s name</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heck out some of their sites</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f you want to add this users click add to my network in the upper right hand corner.</a:t>
            </a:r>
            <a:endParaRPr b="0" lang="en-US" sz="3200" spc="-1" strike="noStrike">
              <a:solidFill>
                <a:srgbClr val="2f1311"/>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ow click yes.</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Visit Some of Our Sites</a:t>
            </a:r>
            <a:endParaRPr b="0" lang="en-US" sz="4000" spc="-1" strike="noStrike">
              <a:solidFill>
                <a:srgbClr val="f7d47d"/>
              </a:solidFill>
              <a:latin typeface="Arial"/>
            </a:endParaRPr>
          </a:p>
        </p:txBody>
      </p:sp>
      <p:sp>
        <p:nvSpPr>
          <p:cNvPr id="23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Navigate through some of the jamesfarley sites.</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termine if any of these sites are useful.</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hare with others what you find.</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ets Create an Account</a:t>
            </a:r>
            <a:endParaRPr b="0" lang="en-US" sz="4000" spc="-1" strike="noStrike">
              <a:solidFill>
                <a:srgbClr val="f7d47d"/>
              </a:solidFill>
              <a:latin typeface="Arial"/>
            </a:endParaRPr>
          </a:p>
        </p:txBody>
      </p:sp>
      <p:sp>
        <p:nvSpPr>
          <p:cNvPr id="239" name=""/>
          <p:cNvSpPr txBox="1"/>
          <p:nvPr/>
        </p:nvSpPr>
        <p:spPr>
          <a:xfrm>
            <a:off x="263520" y="1598760"/>
            <a:ext cx="7386480" cy="4497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Why Delicious</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hare what you have found to be helpful</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nd useful websites</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Keep all of your and you colleagues bookmarks in one place</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is easy to use</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Logging in</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o to </a:t>
            </a:r>
            <a:r>
              <a:rPr b="0" lang="en-US" sz="3200" spc="-1" strike="noStrike" u="sng">
                <a:solidFill>
                  <a:srgbClr val="f0b854"/>
                </a:solidFill>
                <a:uFillTx/>
                <a:latin typeface="Arial"/>
                <a:hlinkClick r:id="rId2"/>
              </a:rPr>
              <a:t>www.delicious.com</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gn is as jamesfarley</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assword: jaf140</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Sign in to Delicious</a:t>
            </a:r>
            <a:endParaRPr b="0" lang="en-US" sz="4000" spc="-1" strike="noStrike">
              <a:solidFill>
                <a:srgbClr val="f7d47d"/>
              </a:solidFill>
              <a:latin typeface="Arial"/>
            </a:endParaRPr>
          </a:p>
        </p:txBody>
      </p:sp>
      <p:pic>
        <p:nvPicPr>
          <p:cNvPr id="201" name="Picture 5" descr="2595240181_a3dfeac00d_m"/>
          <p:cNvPicPr/>
          <p:nvPr/>
        </p:nvPicPr>
        <p:blipFill>
          <a:blip r:embed="rId1"/>
          <a:stretch/>
        </p:blipFill>
        <p:spPr>
          <a:xfrm>
            <a:off x="1784520" y="1447920"/>
            <a:ext cx="441144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Navigating Delicious</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croll down the page to see what has been saved</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he page number to see more sights</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on the website to vis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Navigating Delicious</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f you are looking for a specific subject or topic look at the tags on the right hand side of the screen.</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s will narrow your search.</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he topic you are interested it.</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ry i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dding a Bookmark</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n the upper right hand corner click save a new bookmark.</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 new screen will now pop up.</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ype or paste the address of the web site you wish to add.</a:t>
            </a: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next.</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Adding a Bookmark</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 space labeled notes is available.</a:t>
            </a:r>
            <a:endParaRPr b="0" lang="en-US" sz="2800" spc="-1" strike="noStrike">
              <a:solidFill>
                <a:srgbClr val="2f1311"/>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ype a description of the website in the space.  </a:t>
            </a:r>
            <a:endParaRPr b="0" lang="en-US" sz="2800" spc="-1" strike="noStrike">
              <a:solidFill>
                <a:srgbClr val="2f1311"/>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ags is another space available.</a:t>
            </a:r>
            <a:endParaRPr b="0" lang="en-US" sz="2800" spc="-1" strike="noStrike">
              <a:solidFill>
                <a:srgbClr val="2f1311"/>
              </a:solidFill>
              <a:latin typeface="Arial"/>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ype topics that this site is related to in this space.  Such as Math, ELA, Education, Photos.</a:t>
            </a:r>
            <a:endParaRPr b="0" lang="en-US" sz="2800" spc="-1" strike="noStrike">
              <a:solidFill>
                <a:srgbClr val="2f1311"/>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You can add more than one tag just be sure to add a comma after each tag.</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02:12:40Z</dcterms:created>
  <dc:creator>lmadmin</dc:creator>
  <dc:description/>
  <dc:language>en-US</dc:language>
  <cp:lastModifiedBy>Kris Felicello</cp:lastModifiedBy>
  <dcterms:modified xsi:type="dcterms:W3CDTF">2010-08-01T18:27:26Z</dcterms:modified>
  <cp:revision>3</cp:revision>
  <dc:subject/>
  <dc:title>Delicious</dc:title>
</cp:coreProperties>
</file>